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8.wmf" ContentType="image/x-wmf"/>
  <Override PartName="/ppt/media/image14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20.jpeg" ContentType="image/jpeg"/>
  <Override PartName="/ppt/media/image7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E03-026B-414C-AE39-EC638A772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C522-CD11-4982-BC02-60B20488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9F3-3579-49B6-AF32-2E47AB9E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28E-A197-4294-BDE1-AF013B9B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Object 85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Object 8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8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5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36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Rectangle 37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27.xml"/><Relationship Id="rId5" Type="http://schemas.openxmlformats.org/officeDocument/2006/relationships/image" Target="../media/image1.jpeg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image" Target="../media/image1.jpeg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20.xml"/><Relationship Id="rId11" Type="http://schemas.openxmlformats.org/officeDocument/2006/relationships/image" Target="../media/image1.jpeg"/><Relationship Id="rId12" Type="http://schemas.openxmlformats.org/officeDocument/2006/relationships/slide" Target="slide20.xml"/><Relationship Id="rId13" Type="http://schemas.openxmlformats.org/officeDocument/2006/relationships/slide" Target="slide20.xml"/><Relationship Id="rId14" Type="http://schemas.openxmlformats.org/officeDocument/2006/relationships/image" Target="../media/image1.jpeg"/><Relationship Id="rId15" Type="http://schemas.openxmlformats.org/officeDocument/2006/relationships/slide" Target="slide27.xml"/><Relationship Id="rId16" Type="http://schemas.openxmlformats.org/officeDocument/2006/relationships/slide" Target="slide27.xml"/><Relationship Id="rId17" Type="http://schemas.openxmlformats.org/officeDocument/2006/relationships/image" Target="../media/image1.jpeg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7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image" Target="../media/image1.jpeg"/><Relationship Id="rId8" Type="http://schemas.openxmlformats.org/officeDocument/2006/relationships/slide" Target="slide27.xm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7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3362400"/>
            <a:ext cx="91440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1960" indent="-291960" algn="ctr">
              <a:spcBef>
                <a:spcPts val="40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ucuses     &amp;      Primaries Both lead up to the conven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months. Before presidential elections: parties send out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o Conven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king states to meet to select presidential nominations and select delegates they will send to the national party convention…two meth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5"/>
          <p:cNvCxnSpPr/>
          <p:nvPr/>
        </p:nvCxnSpPr>
        <p:spPr>
          <a:xfrm flipH="1">
            <a:off x="928080" y="2020680"/>
            <a:ext cx="23310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6"/>
          <p:cNvCxnSpPr/>
          <p:nvPr/>
        </p:nvCxnSpPr>
        <p:spPr>
          <a:xfrm>
            <a:off x="5795640" y="2049120"/>
            <a:ext cx="2228040" cy="144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. Caucuses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783720"/>
            <a:ext cx="8610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cus: closed meeting of like-minded people who meet to select the candidate they will support , the caucus as a nominating device fell out of favor in the 182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locally and they choose delegates to a local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5120" indent="-203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@ the local convention, chose delegates to the state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5120" indent="-203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@ the state convention, chose delegates to the national conven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31880" y="3828960"/>
            <a:ext cx="41292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ing Political Cartoons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delegate-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in a presidential election by caucus is held in Io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afterward by the first scheduled primary in New Hampsh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835520" y="3276720"/>
            <a:ext cx="4308480" cy="291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. Primaries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99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vention meetings with 2 Purpo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86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s select delegates from their states to attend the national party co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86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nominate a presidential candidate for their party or show  preference for a presidential cand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eferred because it allows people to decide on candidates for presidency and nominees have to work hard to get sup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: 40 states used presidential primary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 states hold their primaries on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 Tuesda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February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/4ths of states hold their primaries in mid-M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560" indent="-2955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-3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kinds of primari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ner-Take-All vs. Proportion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51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winner-take-all 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legates are awarded only to the candidate who wins the preference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66840" y="2328840"/>
          <a:ext cx="7023240" cy="91908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  <a:gridCol w="1734840"/>
                <a:gridCol w="181800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% of vote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of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=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4" descr="Stick Guy With Hands Up Clip Art"/>
          <p:cNvPicPr/>
          <p:nvPr/>
        </p:nvPicPr>
        <p:blipFill>
          <a:blip r:embed="rId1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Stick Guy With Hands Up Clip Art"/>
          <p:cNvPicPr/>
          <p:nvPr/>
        </p:nvPicPr>
        <p:blipFill>
          <a:blip r:embed="rId2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tick Guy With Hands Up Clip Art"/>
          <p:cNvPicPr/>
          <p:nvPr/>
        </p:nvPicPr>
        <p:blipFill>
          <a:blip r:embed="rId3"/>
          <a:stretch/>
        </p:blipFill>
        <p:spPr>
          <a:xfrm>
            <a:off x="118352880" y="-26052480"/>
            <a:ext cx="17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Users\Fatmeh Reda\AppData\Local\Microsoft\Windows\Temporary Internet Files\Content.IE5\UROBIBTA\MC900383638[1].wmf"/>
          <p:cNvPicPr/>
          <p:nvPr/>
        </p:nvPicPr>
        <p:blipFill>
          <a:blip r:embed="rId4"/>
          <a:stretch/>
        </p:blipFill>
        <p:spPr>
          <a:xfrm>
            <a:off x="2238480" y="1279440"/>
            <a:ext cx="12031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Fatmeh Reda\AppData\Local\Microsoft\Windows\Temporary Internet Files\Content.IE5\QSRTVS04\MC900383636[1].wmf"/>
          <p:cNvPicPr/>
          <p:nvPr/>
        </p:nvPicPr>
        <p:blipFill>
          <a:blip r:embed="rId5"/>
          <a:stretch/>
        </p:blipFill>
        <p:spPr>
          <a:xfrm>
            <a:off x="5722920" y="1147680"/>
            <a:ext cx="1684440" cy="1222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0" y="3317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tate with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proportional repres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eleg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warded to those candidates who win at least 15% of the v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28760" y="5300640"/>
          <a:ext cx="7023240" cy="91908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  <a:gridCol w="1734840"/>
                <a:gridCol w="181800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% of vote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0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of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=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le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4" descr="C:\Users\Fatmeh Reda\AppData\Local\Microsoft\Windows\Temporary Internet Files\Content.IE5\QSRTVS04\MC900383636[1].wmf"/>
          <p:cNvPicPr/>
          <p:nvPr/>
        </p:nvPicPr>
        <p:blipFill>
          <a:blip r:embed="rId6"/>
          <a:stretch/>
        </p:blipFill>
        <p:spPr>
          <a:xfrm>
            <a:off x="5875200" y="4175280"/>
            <a:ext cx="1774800" cy="128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C:\Users\Fatmeh Reda\AppData\Local\Microsoft\Windows\Temporary Internet Files\Content.IE5\QSRTVS04\MC900383636[1].wmf"/>
          <p:cNvPicPr/>
          <p:nvPr/>
        </p:nvPicPr>
        <p:blipFill>
          <a:blip r:embed="rId7"/>
          <a:stretch/>
        </p:blipFill>
        <p:spPr>
          <a:xfrm>
            <a:off x="1852560" y="4114800"/>
            <a:ext cx="1754280" cy="1273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0" y="49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winner-take-all st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legates are awarded only to the candidate who wins the preference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te/territory has an assigned number of delegates it can send to the convention based on population/voting patterns/ # of congressional representatives and state government officials that are members of tha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: 5, 552 to national conven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: 2,286 to national convention publ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C:\Users\Fatmeh Reda\AppData\Local\Microsoft\Windows\Temporary Internet Files\Content.IE5\ZYCQ3AB5\MC900437787[1].wmf"/>
          <p:cNvPicPr/>
          <p:nvPr/>
        </p:nvPicPr>
        <p:blipFill>
          <a:blip r:embed="rId1"/>
          <a:stretch/>
        </p:blipFill>
        <p:spPr>
          <a:xfrm>
            <a:off x="5983200" y="2214720"/>
            <a:ext cx="1838520" cy="160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Fatmeh Reda\AppData\Local\Microsoft\Windows\Temporary Internet Files\Content.IE5\9D5N5HFU\MC900437785[1].wmf"/>
          <p:cNvPicPr/>
          <p:nvPr/>
        </p:nvPicPr>
        <p:blipFill>
          <a:blip r:embed="rId2"/>
          <a:stretch/>
        </p:blipFill>
        <p:spPr>
          <a:xfrm>
            <a:off x="6053040" y="4308480"/>
            <a:ext cx="158112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2089080"/>
            <a:ext cx="9144000" cy="4097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20880" y="0"/>
            <a:ext cx="3229920" cy="236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August–September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Election Year Delegate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convention ado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y platform, nominate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presidential candid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atify his or her choi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ce-presidential running m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6920" y="583560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259080" y="0"/>
            <a:ext cx="3167280" cy="239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eptember–November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he Election Year Fol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ventions, each cand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es on his or her op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ates provide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ompare and contrast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qualification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s for the fu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109400" y="577692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6431040" y="0"/>
            <a:ext cx="2712960" cy="191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November on the Tuesday after th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Monday in November, the voters cast 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lots and the president-elect is determin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06560" y="5732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ction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5. Convention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select host city [look for arenas, stadiums, and sporting venu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8 Republican NC: wanted seating capacity of 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8 Democratic NC: wanted seating capacity of 8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of National conven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presidential/vice presidential candi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party 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opt party platfo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genda of Convention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Vice Presidential candidate- they give acceptance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 call of the stat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ll states in alphabetical order [Alabama to Wyoming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lete roll call of states A-Z is called a ball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spokesperson  gives a speech about the st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history/geography/its famous people… then announces i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te cou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choice for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usually wins par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nomination on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llot…if no one gets majority of votes, chairperson calls for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inee for that party gives Acceptance Spe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Users\Fatmeh Reda\AppData\Local\Microsoft\Windows\Temporary Internet Files\Content.IE5\UROBIBTA\MC900440038[1].wmf"/>
          <p:cNvPicPr/>
          <p:nvPr/>
        </p:nvPicPr>
        <p:blipFill>
          <a:blip r:embed="rId1"/>
          <a:stretch/>
        </p:blipFill>
        <p:spPr>
          <a:xfrm>
            <a:off x="7423200" y="4056120"/>
            <a:ext cx="1436760" cy="22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minating and Electing a Candida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5" descr="_x0014_MAG01se0701a5218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870120" y="914400"/>
            <a:ext cx="7713360" cy="528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most commonly used method of nomination today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cauc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direct prim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self-announ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A runoff primary is held in some States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 one wins a majority of vo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re is only one candi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ot enough voters turn out on election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 candidate asks for a recou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chapter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7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Electoral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2720" y="146700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Nomina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Money and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>
            <a:hlinkClick r:id="rId10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>
            <a:hlinkClick r:id="rId12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1">
            <a:hlinkClick r:id="rId1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>
            <a:hlinkClick r:id="rId1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>
            <a:hlinkClick r:id="rId1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>
            <a:hlinkClick r:id="rId1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2360" y="950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administration of elections in the United States make democracy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precincts and polling places play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can voters cast their ballo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voting machines and other innovations play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5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9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01480" y="1181160"/>
            <a:ext cx="8209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Administration of 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20620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ress has the power to set the time, place, and manner of congressional and presidential el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ress has chosen the first Tuesday after the first Monday in November of every even-numbered year for congressional e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idential election being held the same day every fourth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America Vote Act: upgrade voting machines, training of election officials, computerize regist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absentee voting: people can vote without going to polling place on election day through the m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03360" y="826920"/>
            <a:ext cx="797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ions are primarily regulated by State law, but there are some overreaching federal regulation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8400" y="0"/>
            <a:ext cx="727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ecincts and Polling Plac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908000"/>
            <a:ext cx="4748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300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ecin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cin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voting distri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ncts are the smallest geographic units used to carry out ele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ecinct election board supervises the voting process in each precin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6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7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59240" y="812520"/>
            <a:ext cx="42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ling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lling pl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voters who live in a precinct go to vot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located in or near each precinct.  Polling places are supposed to be located conveniently for vo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C:\Users\Fatmeh Reda\AppData\Local\Microsoft\Windows\Temporary Internet Files\Content.IE5\ZYCQ3AB5\MC900301342[1].wmf"/>
          <p:cNvPicPr/>
          <p:nvPr/>
        </p:nvPicPr>
        <p:blipFill>
          <a:blip r:embed="rId9"/>
          <a:stretch/>
        </p:blipFill>
        <p:spPr>
          <a:xfrm>
            <a:off x="0" y="0"/>
            <a:ext cx="2502000" cy="19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Fatmeh Reda\AppData\Local\Microsoft\Windows\Temporary Internet Files\Content.IE5\QSRTVS04\MC900301334[1].wmf"/>
          <p:cNvPicPr/>
          <p:nvPr/>
        </p:nvPicPr>
        <p:blipFill>
          <a:blip r:embed="rId10"/>
          <a:stretch/>
        </p:blipFill>
        <p:spPr>
          <a:xfrm>
            <a:off x="6672240" y="4678200"/>
            <a:ext cx="2279520" cy="142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sting the Ballo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8840" y="1929960"/>
            <a:ext cx="85107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was initially done orally. It was considered “manly” to speak out your vote without fear of repri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ballots began to be used in the mid-1800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te 1800s, ballot reforms cleaned up ballot fraud by supplying standardized, accurate ballots and mandating that voting be secr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336680" y="1063800"/>
            <a:ext cx="61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istor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-31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ffice-Group and Party-Column Ballo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8" descr="_x0014_MAG01se0702a5219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336600" y="800280"/>
            <a:ext cx="8420040" cy="49622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0"/>
          <p:cNvSpPr/>
          <p:nvPr/>
        </p:nvSpPr>
        <p:spPr>
          <a:xfrm>
            <a:off x="259200" y="4857840"/>
            <a:ext cx="4364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ll candidates of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arty are grouped togeth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Under title of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5196240" y="5361120"/>
            <a:ext cx="3499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sts candidates 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arty</a:t>
            </a:r>
            <a:r>
              <a:rPr b="1" lang="ja-JP" sz="24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Voting Machines and Innova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_x0014_MAG01se0702a5195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4321080" y="831960"/>
            <a:ext cx="4822920" cy="5443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0" y="787320"/>
            <a:ext cx="4438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vote counting has been in use since the 1960s that reads ballots like a Scantron machine- machine scans your votes and records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-by-mail elections have come into use in recent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9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voting is a trend that may be encountered in the near fu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Elections are hel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first Wednesday after Hallo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first Tuesday after the first Monday in Nov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second Thursday after the first Monday in Ma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first Monday in Dec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Office-Group Ballot encou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voter fra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split-ticket vo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voter dissatisf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Democratic Par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8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ney and 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240" y="917280"/>
            <a:ext cx="8858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issues raised by campaign spend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various sources of campaign fund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deral laws regulate campaign fin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role does the Federal Election Commission have in enforcing campaign finance la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2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loopholes exist in today’s campaign finance la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1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ampaign Spend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0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5" descr="_x0014_MAG01se0703a5196.jpg                                           00000179_x000b_PenyackJ HD                    B33A4082:"/>
          <p:cNvPicPr/>
          <p:nvPr/>
        </p:nvPicPr>
        <p:blipFill>
          <a:blip r:embed="rId9"/>
          <a:stretch/>
        </p:blipFill>
        <p:spPr>
          <a:xfrm>
            <a:off x="309600" y="930240"/>
            <a:ext cx="858348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ources of Fund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7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8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0" y="2351160"/>
            <a:ext cx="40910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contributors: $5-$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0" y="3467160"/>
            <a:ext cx="4097160" cy="94716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lthy supporters: large do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565520" y="1947960"/>
            <a:ext cx="4578480" cy="1435320"/>
          </a:xfrm>
          <a:prstGeom prst="rect">
            <a:avLst/>
          </a:prstGeom>
          <a:solidFill>
            <a:srgbClr val="0a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party groups such as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Political Action Committees [PA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:special-interest groups who support a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565520" y="3490920"/>
            <a:ext cx="2668680" cy="13737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fund-rais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0" y="4659480"/>
            <a:ext cx="4102200" cy="1433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didates: spend own money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s Perot spend $65 to run as independent president in 199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565520" y="5016600"/>
            <a:ext cx="4578480" cy="113040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Subsi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s of money  from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1"/>
          <p:cNvGrpSpPr/>
          <p:nvPr/>
        </p:nvGrpSpPr>
        <p:grpSpPr>
          <a:xfrm>
            <a:off x="1865160" y="963720"/>
            <a:ext cx="5396040" cy="4733640"/>
            <a:chOff x="1865160" y="963720"/>
            <a:chExt cx="5396040" cy="4733640"/>
          </a:xfrm>
        </p:grpSpPr>
        <p:sp>
          <p:nvSpPr>
            <p:cNvPr id="321" name="Line 20"/>
            <p:cNvSpPr/>
            <p:nvPr/>
          </p:nvSpPr>
          <p:spPr>
            <a:xfrm>
              <a:off x="4332240" y="1839960"/>
              <a:ext cx="0" cy="38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1865160" y="963720"/>
              <a:ext cx="5396040" cy="9471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vate and Public Sources of Campaign Mon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8"/>
            <p:cNvSpPr/>
            <p:nvPr/>
          </p:nvSpPr>
          <p:spPr>
            <a:xfrm>
              <a:off x="4102200" y="28256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9"/>
            <p:cNvSpPr/>
            <p:nvPr/>
          </p:nvSpPr>
          <p:spPr>
            <a:xfrm>
              <a:off x="4102200" y="42116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0"/>
            <p:cNvSpPr/>
            <p:nvPr/>
          </p:nvSpPr>
          <p:spPr>
            <a:xfrm>
              <a:off x="4102200" y="5445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Nominating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5080" y="85068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nominating process a critical first step in the electi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elf-announcement, the caucus, and the convention nominating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irect primary the principal nominating method used in the United State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some candidates use the petition as a nominating de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Federal Election Commiss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18600" y="934920"/>
            <a:ext cx="847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ederal Election Commission (FEC) enfo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ly disclosure of campaign financ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campaign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campaign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s for public funding of presidential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">
            <a:hlinkClick r:id="rId6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>
            <a:hlinkClick r:id="rId8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opholes in the La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843120"/>
            <a:ext cx="9144000" cy="23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37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oophole than law…” —Lyndon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ard money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s given directly to candidates for their campaigns for Congress or White House..they’re limited and must be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oft money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money given to State and local party organizations for “party-building activities” [like voter registration] but end up being used for presidential or congressional campaig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497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500 million was given to campaigns in this way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1" descr=""/>
          <p:cNvPicPr/>
          <p:nvPr/>
        </p:nvPicPr>
        <p:blipFill>
          <a:blip r:embed="rId1"/>
          <a:stretch/>
        </p:blipFill>
        <p:spPr>
          <a:xfrm>
            <a:off x="-2530440" y="0"/>
            <a:ext cx="15906600" cy="629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367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dependent campaign sp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 person unrelated and unconnected to a candidate or party can spend as much money as they want to benefit or work against candi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ssue a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ake a stand on certain issues in order to criticize or support a certain candidate without actually mentioning that person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MoveOn.org: President Bush Can't Think of a Mistake, 2004 (0: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MoveOn.org: The Corporation's Choice, 2004 (0: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ative Issue Ad by Swiftboat Veterans for Truth: Christmas in Cambodia, 2004 (0: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s of campaign funding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nparty groups, such as political action committ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government subsi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andidates’ personal fu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federal election legislature passed in the 1970s, candidates are not allow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ake government subsi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use their own money in campaig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ake contributions of more than $1,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Critical First Ste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 the United States, the election process occurs in two ste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mination, in which the field of candidates is narr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l election, the regularly scheduled election where voters make the final choice of office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99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y is nominating Important [*write down somewhere*]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49652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 major function of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for the decentralized character of major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s place a real and practical limits on the choices that voters can make in an e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0" y="0"/>
            <a:ext cx="3303720" cy="317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4 Years Befor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steps for potential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broadening their visibil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their appeal nationwide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committees to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ir viability as a candidate.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ults are encouraging,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der will officially announce 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her candid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322800" y="0"/>
            <a:ext cx="3141360" cy="210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-4 Years Befor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sts of running for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huge and raising funds i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effort throughou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mpaign. Lack of funds of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 contenders to drop ou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89720" y="0"/>
            <a:ext cx="2654280" cy="273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January–June of the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Year Primaries and caucuses help det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ominee. At this stage, vo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their par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frontrunner and 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tes concede def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3680" y="5851440"/>
            <a:ext cx="274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the 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860200" y="579132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drai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191200" y="582624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ies and Cauc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2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ays to Nominat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990360"/>
            <a:ext cx="8610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Announcem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who wants to run for office simply announces that f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dest form of the nominat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used by someone who failed to win a regular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nominating or by someone unhappy with the party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cho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allace of the American Independent Party in 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 McCarthy, Independent in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Anderson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4572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s Perot in 19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5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7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C:\Users\Fatmeh Reda\AppData\Local\Microsoft\Windows\Temporary Internet Files\Content.IE5\M21I9DF9\MC900058994[1].wmf"/>
          <p:cNvPicPr/>
          <p:nvPr/>
        </p:nvPicPr>
        <p:blipFill>
          <a:blip r:embed="rId9"/>
          <a:stretch/>
        </p:blipFill>
        <p:spPr>
          <a:xfrm>
            <a:off x="7120080" y="4443480"/>
            <a:ext cx="1809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990360"/>
            <a:ext cx="8610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local level in American politics- candidates are nominated by petitions signed by a certain number of qualified voters in the election distr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party and independent candidates are usually required by State law to be nominated by 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ition is often used at the local level to nominate for school posts and municipal off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Fatmeh Reda\AppData\Local\Microsoft\Windows\Temporary Internet Files\Content.IE5\M21I9DF9\MC900301354[1].wmf"/>
          <p:cNvPicPr/>
          <p:nvPr/>
        </p:nvPicPr>
        <p:blipFill>
          <a:blip r:embed="rId1"/>
          <a:stretch/>
        </p:blipFill>
        <p:spPr>
          <a:xfrm>
            <a:off x="6723000" y="3859200"/>
            <a:ext cx="134136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20:45:30Z</dcterms:created>
  <dc:creator>Pearson Education</dc:creator>
  <dc:description/>
  <dc:language>en-US</dc:language>
  <cp:lastModifiedBy>olsonl olson</cp:lastModifiedBy>
  <cp:lastPrinted>2000-02-11T15:28:41Z</cp:lastPrinted>
  <dcterms:modified xsi:type="dcterms:W3CDTF">2017-05-08T16:58:58Z</dcterms:modified>
  <cp:revision>71</cp:revision>
  <dc:subject>World History Lecture Notes</dc:subject>
  <dc:title>Magruder’s American Government</dc:title>
</cp:coreProperties>
</file>